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2906-0C87-4CC9-ADC4-771F8C1053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98F8-BABB-45A5-B710-579460B4C5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11E8-DFF2-4FCF-8580-70C6880C1C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E3C1-25E8-44F4-9A9B-2AD5B1D8BD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8156-7C4C-4F33-BBDC-408A4D338E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43A3-3672-4888-904C-A8DB23F59B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F4C1-2A8D-4935-BEAA-5721C4B927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3DD3-702D-4CC1-B371-8FF60DC4DC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495F-463A-4F32-AC44-E446C695CD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5719-C7DF-4ABB-BBC1-A6B367CD15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C5F-9BD5-48EE-BB82-19D8C9ED06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33FD-14A8-40B6-9F7D-925143300A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D73B-0793-4BEA-96FC-9F54AA98FB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9190-98AA-4E00-B653-CEC09D928E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01D3-381F-4777-B022-55E007A77F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7000" indent="0">
              <a:spcBef>
                <a:spcPts val="28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7000" indent="0"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0953-BAED-44B7-99E4-0158124A3C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2EA5-4B76-4707-BE3B-4B32849212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A715-8906-4E2A-80FA-D8EDC0EDFF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A469-6EE8-4CF1-AB6D-8BE5CF60EF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BFDA-ACFB-4A23-B8FF-D27AA8560A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F3CC-18E1-4386-AF6F-773A4B1048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2907-6972-432E-AD43-62093B6505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8B54-0698-451E-824A-8056721783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1295-3C3D-4D75-AC1E-07D00D8113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C1B2-5452-4BFF-9689-7D7725CFEC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171C-A0BB-4C1E-937D-451D3BCF69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FCAC-6529-4F7F-9A81-63D9B83699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4036-71D2-45D5-B34B-676055265B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A4A3-691D-4EC2-82F0-67B88683C3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43ED-8A2F-4DA0-A927-E46D8DCE7D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83CA-064B-4293-9027-ACDBE165BD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9D57-034E-4E5B-B372-8E1C23D793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728F-2967-4BD8-92CE-7F2E6A4922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5FD-9ED4-417D-A3C7-1B8B9ED2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3AE-3556-495E-9BEE-0424C317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0A5-7765-4BD4-8386-AAC3BA17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90F-6E25-4642-B42C-344C3F3F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5A17-1ECC-415D-9FDE-3EB97BD1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9BA0-1FF6-46AB-85B5-612140DE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4995-628B-4E7C-B206-6C042109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7F48-D691-48FC-AECA-2111A8A3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C6A6-C154-4E1C-8F64-6535C650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FE49-364F-454B-A9F9-DEDA95AD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ACB2-6D16-4190-AAFC-1931BF7E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D52-E349-450F-8321-21CEDD46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D1B7-0073-4E61-BBB7-ECD25B37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31BB-42F4-4848-A663-14FD703E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F698-8BA9-4356-AB6A-93491203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0FF1-642F-4853-846A-EE09282F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9CC5-C26D-489E-88E5-6B9D4F6F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56B-53B9-4CCE-AA6C-C64E9040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C0E-66EA-49E2-B53E-E8726CFA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C52-5C7F-41AD-9087-366B3999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810-F016-4D83-92AC-750F65B4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BED-8FC6-4CB2-98B5-3FE81776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313-5E26-4F64-88A0-3582120F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0CA-096D-42CD-8A9B-7D16C332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67E3-6353-4A94-9351-2EE8884E444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9235-5786-4D87-B51E-8EB4CCE978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Garamond"/>
              </a:rPr>
              <a:t>Етиологија, класификација и дијагностика менталних поремећаја</a:t>
            </a:r>
            <a:br>
              <a:rPr sz="3600"/>
            </a:br>
            <a:r>
              <a:rPr b="1" lang="sr-RS" sz="3600" spc="-1" strike="noStrike">
                <a:solidFill>
                  <a:srgbClr val="000000"/>
                </a:solidFill>
                <a:latin typeface="Garamond"/>
              </a:rPr>
              <a:t>Теорије личности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43664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Garamond"/>
              </a:rPr>
              <a:t>проф. др Милица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M. </a:t>
            </a:r>
            <a:r>
              <a:rPr b="1" lang="sr-RS" sz="2800" spc="-1" strike="noStrike">
                <a:solidFill>
                  <a:srgbClr val="c00000"/>
                </a:solidFill>
                <a:latin typeface="Garamond"/>
              </a:rPr>
              <a:t>Боровчан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Garamond"/>
              </a:rPr>
              <a:t>Интегрисане академске студије медицине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Garamond"/>
              </a:rPr>
              <a:t>Психијатриј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Garamond"/>
              </a:rPr>
              <a:t>школска 2023/2024. годин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Picture 46" descr=""/>
          <p:cNvPicPr/>
          <p:nvPr/>
        </p:nvPicPr>
        <p:blipFill>
          <a:blip r:embed="rId1"/>
          <a:stretch/>
        </p:blipFill>
        <p:spPr>
          <a:xfrm>
            <a:off x="3784680" y="76320"/>
            <a:ext cx="1536480" cy="18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Саливенова теорија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Личност је “релативно постојан образац међуљудских ситуација које обликују хумано живљење”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ема личности мимо њених односа са људима – наглашавање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интерперсоналних релација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међу људим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азвој личности се не завршава у раном детињству, већ се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значајно обликује у адолесценциј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Гешталт модел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“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Доживљај целине”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е зависи само од њених појединачних компонент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валитет целине је у ствари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нова синте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Garamond"/>
              </a:rPr>
              <a:t>Трансакционална теорија личности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ичност је структурална и функционална организација три Его стања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Его стање Родитељ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Негујући или Критички Родитељ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Его стање Одрасл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Его стање Дете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Слободно Дете или Адаптирано Дете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змена ових стимулација између особа чини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трансакциј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руштво је агрегат личности и оно тера јединке да прихвате специјалне улоге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(теорија улоге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Бихевиоралне теорије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Базирају се на Павловљевим </a:t>
            </a:r>
            <a:r>
              <a:rPr b="1" lang="sr-RS" sz="2800" spc="-1" strike="noStrike">
                <a:solidFill>
                  <a:srgbClr val="c00000"/>
                </a:solidFill>
                <a:latin typeface="Garamond"/>
              </a:rPr>
              <a:t>условним рефлексима 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и основним теоријама учењ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Основна идеја је да се понашање учи током живота, то јест да се </a:t>
            </a:r>
            <a:r>
              <a:rPr b="1" lang="sr-RS" sz="2800" spc="-1" strike="noStrike">
                <a:solidFill>
                  <a:srgbClr val="c00000"/>
                </a:solidFill>
                <a:latin typeface="Garamond"/>
              </a:rPr>
              <a:t>условљав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Позитивне последице једног понашања (награде) </a:t>
            </a:r>
            <a:r>
              <a:rPr b="1" lang="sr-RS" sz="2800" spc="-1" strike="noStrike">
                <a:solidFill>
                  <a:srgbClr val="c00000"/>
                </a:solidFill>
                <a:latin typeface="Garamond"/>
              </a:rPr>
              <a:t>поткрепљују 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понашање које их је изазвало, а негативне последице једног понашања (казне) </a:t>
            </a:r>
            <a:r>
              <a:rPr b="1" lang="sr-RS" sz="2800" spc="-1" strike="noStrike">
                <a:solidFill>
                  <a:srgbClr val="c00000"/>
                </a:solidFill>
                <a:latin typeface="Garamond"/>
              </a:rPr>
              <a:t>сузбијају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то понашањ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Right Arrow 3"/>
          <p:cNvGrpSpPr/>
          <p:nvPr/>
        </p:nvGrpSpPr>
        <p:grpSpPr>
          <a:xfrm>
            <a:off x="7937640" y="5092560"/>
            <a:ext cx="1003320" cy="1105200"/>
            <a:chOff x="7937640" y="5092560"/>
            <a:chExt cx="1003320" cy="1105200"/>
          </a:xfrm>
        </p:grpSpPr>
        <p:pic>
          <p:nvPicPr>
            <p:cNvPr id="158" name="Right Arrow 3" descr=""/>
            <p:cNvPicPr/>
            <p:nvPr/>
          </p:nvPicPr>
          <p:blipFill>
            <a:blip r:embed="rId1"/>
            <a:stretch/>
          </p:blipFill>
          <p:spPr>
            <a:xfrm>
              <a:off x="7937640" y="5092560"/>
              <a:ext cx="100332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5400000">
              <a:off x="8086320" y="5317920"/>
              <a:ext cx="758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Right Arrow 4"/>
          <p:cNvGrpSpPr/>
          <p:nvPr/>
        </p:nvGrpSpPr>
        <p:grpSpPr>
          <a:xfrm>
            <a:off x="7988400" y="3797280"/>
            <a:ext cx="1003320" cy="1104840"/>
            <a:chOff x="7988400" y="3797280"/>
            <a:chExt cx="1003320" cy="1104840"/>
          </a:xfrm>
        </p:grpSpPr>
        <p:pic>
          <p:nvPicPr>
            <p:cNvPr id="161" name="Right Arrow 4" descr=""/>
            <p:cNvPicPr/>
            <p:nvPr/>
          </p:nvPicPr>
          <p:blipFill>
            <a:blip r:embed="rId2"/>
            <a:stretch/>
          </p:blipFill>
          <p:spPr>
            <a:xfrm>
              <a:off x="7988400" y="3797280"/>
              <a:ext cx="100332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rot="16200000">
              <a:off x="8086680" y="4240080"/>
              <a:ext cx="758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Олпортова теорија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Особине не показују само начин, релативну доследност у понашању, него и подстичу личност на одређену активност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(мотивациони карактер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Могуће је да нешто што је човек чинио из биолошке потребе постане касније самостална покретачка снаг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Оно што је раније било средство да се задовољи одређени биолошки мотив, постало је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аутономан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независан мотив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Его психолошке теорије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Garamond"/>
              </a:rPr>
              <a:t>Хартманова 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Его психолошка теорија личности сматра да Его има и друге функције поред оних које му је придавао Фројд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Циљеви Ега нису увек у вези са свесним циљевим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Его одбране нису увек патолош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Посебна пажња се посвећује прилагођавању Ега средин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Масловљева теорија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Самоактуелизација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као идеални циљ, тежња ка најпотпунијој реализацији сопствених могућност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амоактуелизована је она особа која је развила своје потенцијале до крајњих границ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Ериксонова теорија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хвата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личност као непрекидан процес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оји пролази у фазама, које се донекле поклапају са Фројдовим фазам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омене са карактеристичним знацима (развој) тече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све до дубоке старост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Garamond"/>
              </a:rPr>
              <a:t>Биолошка основа људског понашањ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Принцип задовољства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: организам настоји да пронађе највеће могуће задовољство, а да истовремено избегне неугоднос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нцип задовољства се модификује животним искуством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одификација принципа задовољства се назива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принцип реалност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Теорија несвесне мотивације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Људско биће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није увек свесно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мотива и циљева свога понашања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1900. године: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Фројд о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несвесној психи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Фројдово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учење о потискивањ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1923. године: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Фрој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о Иду, Егу и Суперег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Личност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Garamond"/>
              </a:rPr>
              <a:t>Црте личности:</a:t>
            </a:r>
            <a:r>
              <a:rPr b="0" lang="ru-RU" sz="30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начин понашања и реаговања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Garamond"/>
              </a:rPr>
              <a:t>Темперамент: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начин емоционалног реаговања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Garamond"/>
              </a:rPr>
              <a:t>Карактер: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вољне и моралне карактеристике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751"/>
              </a:spcBef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Психички живот људских бић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астоји се из два основна дела: свесног и несвесног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Свесни део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одстиче човека на акцију вођен принципом задовољства и сигурност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Несвесно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, у коме су потиснуте жеље и други садржаји, такође је активно и стимулише човека на акциј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Арбитрарна подела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8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5292720" y="1989000"/>
            <a:ext cx="3600360" cy="30200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базични импулси и стр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биолошка дат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оперише по принципу задовољ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7336080" y="580536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либи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5292720" y="2924280"/>
            <a:ext cx="3600360" cy="3751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начини извршења задатака из Ида, Суперега и спољашње с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синтеза потреба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оперише по принципу реал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5292720" y="4365720"/>
            <a:ext cx="3600360" cy="265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систем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функција самопосматрача и са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носилац Ја-иде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Теорија о конфликтим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7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grpSp>
        <p:nvGrpSpPr>
          <p:cNvPr id="188" name="Left-Right Arrow 4"/>
          <p:cNvGrpSpPr/>
          <p:nvPr/>
        </p:nvGrpSpPr>
        <p:grpSpPr>
          <a:xfrm>
            <a:off x="2413080" y="4038480"/>
            <a:ext cx="863640" cy="609840"/>
            <a:chOff x="2413080" y="4038480"/>
            <a:chExt cx="863640" cy="609840"/>
          </a:xfrm>
        </p:grpSpPr>
        <p:pic>
          <p:nvPicPr>
            <p:cNvPr id="189" name="Left-Right Arrow 4" descr=""/>
            <p:cNvPicPr/>
            <p:nvPr/>
          </p:nvPicPr>
          <p:blipFill>
            <a:blip r:embed="rId2"/>
            <a:stretch/>
          </p:blipFill>
          <p:spPr>
            <a:xfrm>
              <a:off x="2413080" y="4038480"/>
              <a:ext cx="8636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604960" y="4199040"/>
              <a:ext cx="478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Left-Right Arrow 6"/>
          <p:cNvGrpSpPr/>
          <p:nvPr/>
        </p:nvGrpSpPr>
        <p:grpSpPr>
          <a:xfrm>
            <a:off x="7645320" y="1422360"/>
            <a:ext cx="609840" cy="2146320"/>
            <a:chOff x="7645320" y="1422360"/>
            <a:chExt cx="609840" cy="2146320"/>
          </a:xfrm>
        </p:grpSpPr>
        <p:pic>
          <p:nvPicPr>
            <p:cNvPr id="192" name="Left-Right Arrow 6" descr=""/>
            <p:cNvPicPr/>
            <p:nvPr/>
          </p:nvPicPr>
          <p:blipFill>
            <a:blip r:embed="rId3"/>
            <a:stretch/>
          </p:blipFill>
          <p:spPr>
            <a:xfrm>
              <a:off x="7645320" y="1422360"/>
              <a:ext cx="6098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5400000">
              <a:off x="7095960" y="2371680"/>
              <a:ext cx="177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7"/>
          <p:cNvSpPr/>
          <p:nvPr/>
        </p:nvSpPr>
        <p:spPr>
          <a:xfrm>
            <a:off x="86400" y="83664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спољна с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Left-Right Arrow 8"/>
          <p:cNvGrpSpPr/>
          <p:nvPr/>
        </p:nvGrpSpPr>
        <p:grpSpPr>
          <a:xfrm>
            <a:off x="723960" y="1206360"/>
            <a:ext cx="952560" cy="1244880"/>
            <a:chOff x="723960" y="1206360"/>
            <a:chExt cx="952560" cy="1244880"/>
          </a:xfrm>
        </p:grpSpPr>
        <p:pic>
          <p:nvPicPr>
            <p:cNvPr id="196" name="Left-Right Arrow 8" descr=""/>
            <p:cNvPicPr/>
            <p:nvPr/>
          </p:nvPicPr>
          <p:blipFill>
            <a:blip r:embed="rId4"/>
            <a:stretch/>
          </p:blipFill>
          <p:spPr>
            <a:xfrm>
              <a:off x="723960" y="1206360"/>
              <a:ext cx="95256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3882600">
              <a:off x="764640" y="1710000"/>
              <a:ext cx="8683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Left-Right Arrow 9"/>
          <p:cNvGrpSpPr/>
          <p:nvPr/>
        </p:nvGrpSpPr>
        <p:grpSpPr>
          <a:xfrm>
            <a:off x="2489040" y="5842080"/>
            <a:ext cx="851040" cy="609480"/>
            <a:chOff x="2489040" y="5842080"/>
            <a:chExt cx="851040" cy="609480"/>
          </a:xfrm>
        </p:grpSpPr>
        <p:pic>
          <p:nvPicPr>
            <p:cNvPr id="199" name="Left-Right Arrow 9" descr=""/>
            <p:cNvPicPr/>
            <p:nvPr/>
          </p:nvPicPr>
          <p:blipFill>
            <a:blip r:embed="rId5"/>
            <a:stretch/>
          </p:blipFill>
          <p:spPr>
            <a:xfrm>
              <a:off x="2489040" y="5842080"/>
              <a:ext cx="851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676600" y="5999040"/>
              <a:ext cx="4777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Улога конфликат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Конфликти производе неугодност,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анксиозност 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и лоше функционисање личности (дисфункционалност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Решавају се тако што се један од конфликтогених елемената превиди, односно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искључи из свесног дела псих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Механизми потискивања 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се користе да се из свесног дела личности искључе садржаји или сећања која изазивају неугодност или бол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Потискивање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ело или Суперега, или то по његовом налогу чини Его, који му је у том случају покорн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Невољно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искључивање конфликтуозних или непријатних мисли, сећања или импулса из свест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во је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примарни механизам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Его одбране, други механизми само појачавају потискивањ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Garamond"/>
              </a:rPr>
              <a:t>Нивои свести од значаја за потискивање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свесн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предсвесн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подсвесн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несвесн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07" name="Right Arrow 3"/>
          <p:cNvGrpSpPr/>
          <p:nvPr/>
        </p:nvGrpSpPr>
        <p:grpSpPr>
          <a:xfrm>
            <a:off x="4064040" y="2019240"/>
            <a:ext cx="1003320" cy="711360"/>
            <a:chOff x="4064040" y="2019240"/>
            <a:chExt cx="1003320" cy="711360"/>
          </a:xfrm>
        </p:grpSpPr>
        <p:pic>
          <p:nvPicPr>
            <p:cNvPr id="208" name="Right Arrow 3" descr=""/>
            <p:cNvPicPr/>
            <p:nvPr/>
          </p:nvPicPr>
          <p:blipFill>
            <a:blip r:embed="rId1"/>
            <a:stretch/>
          </p:blipFill>
          <p:spPr>
            <a:xfrm>
              <a:off x="4064040" y="201924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5400000">
              <a:off x="4371480" y="2085840"/>
              <a:ext cx="432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ight Arrow 4"/>
          <p:cNvGrpSpPr/>
          <p:nvPr/>
        </p:nvGrpSpPr>
        <p:grpSpPr>
          <a:xfrm>
            <a:off x="4064040" y="3174840"/>
            <a:ext cx="1003320" cy="711360"/>
            <a:chOff x="4064040" y="3174840"/>
            <a:chExt cx="1003320" cy="711360"/>
          </a:xfrm>
        </p:grpSpPr>
        <p:pic>
          <p:nvPicPr>
            <p:cNvPr id="211" name="Right Arrow 4" descr=""/>
            <p:cNvPicPr/>
            <p:nvPr/>
          </p:nvPicPr>
          <p:blipFill>
            <a:blip r:embed="rId2"/>
            <a:stretch/>
          </p:blipFill>
          <p:spPr>
            <a:xfrm>
              <a:off x="4064040" y="317484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rot="5400000">
              <a:off x="4371840" y="3238560"/>
              <a:ext cx="431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ight Arrow 5"/>
          <p:cNvGrpSpPr/>
          <p:nvPr/>
        </p:nvGrpSpPr>
        <p:grpSpPr>
          <a:xfrm>
            <a:off x="4064040" y="4178160"/>
            <a:ext cx="1003320" cy="711360"/>
            <a:chOff x="4064040" y="4178160"/>
            <a:chExt cx="1003320" cy="711360"/>
          </a:xfrm>
        </p:grpSpPr>
        <p:pic>
          <p:nvPicPr>
            <p:cNvPr id="214" name="Right Arrow 5" descr=""/>
            <p:cNvPicPr/>
            <p:nvPr/>
          </p:nvPicPr>
          <p:blipFill>
            <a:blip r:embed="rId3"/>
            <a:stretch/>
          </p:blipFill>
          <p:spPr>
            <a:xfrm>
              <a:off x="4064040" y="417816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rot="5400000">
              <a:off x="4371840" y="4246560"/>
              <a:ext cx="431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10"/>
          <p:cNvSpPr/>
          <p:nvPr/>
        </p:nvSpPr>
        <p:spPr>
          <a:xfrm>
            <a:off x="971640" y="5877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Утрошак енергије (контраинвести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Значај маханизама одбране</a:t>
            </a:r>
            <a:r>
              <a:rPr b="1" lang="sr-RS" sz="4000" spc="-1" strike="noStrike">
                <a:solidFill>
                  <a:srgbClr val="000000"/>
                </a:solidFill>
                <a:latin typeface="Garamond"/>
              </a:rPr>
              <a:t> Ег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сихички феномени који се користе да се подрже процес потискивањ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марна функција механизама Его-одбране је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смањење анксиозности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заштита Ега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подржавање потискивања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Теорије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Човек функционише у свом тоталитету, покушавајући да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интегрише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наслеђену природу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индивидуални развој личности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догађаје свакодневног живљењ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Формативни значај 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неког од чинилац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Теорије личности су настале као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синтеза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психолошких проучавања и сазнањ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0920" y="115920"/>
          <a:ext cx="8640720" cy="6653160"/>
        </p:xfrm>
        <a:graphic>
          <a:graphicData uri="http://schemas.openxmlformats.org/drawingml/2006/table">
            <a:tbl>
              <a:tblPr/>
              <a:tblGrid>
                <a:gridCol w="3141720"/>
                <a:gridCol w="549900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ханизам Его одбр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јашњ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ублим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лабљење једног инстинктивног импулса коришћењем </a:t>
                      </a:r>
                      <a:r>
                        <a:rPr b="1" lang="sr-R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енергије друг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трој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асимилација објекта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у свој сопствени Его или Супер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дентифи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свесно </a:t>
                      </a:r>
                      <a:r>
                        <a:rPr b="1" lang="sr-R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прихватање модела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друге осо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упститу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замена објекта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са којим се инстинктивни импулси задовољавај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4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ационализ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хватање или прибегавање социјално прихватљивом, мањ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ише </a:t>
                      </a:r>
                      <a:r>
                        <a:rPr b="1" lang="sr-R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логичном објашњењу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за радње или одлуке које су актуелно произведени несвесним импулс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91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еактивна форм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длазак у другу крајност, у </a:t>
                      </a:r>
                      <a:r>
                        <a:rPr b="1" lang="sr-R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супротност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надкомпензација за неприхватљиве импул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91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ј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соба своје сопствене мисли, емоције или импулсе </a:t>
                      </a:r>
                      <a:r>
                        <a:rPr b="1" lang="sr-R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придева другој особи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локализује у објекте спољашњег с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91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егре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тежња да се личност врати </a:t>
                      </a:r>
                      <a:r>
                        <a:rPr b="1" lang="sr-R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у ранију ситуацију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која је пријатнија, јер је актуелна ситуација мучна, неподношљ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Фазе у психосексуалном и психосоцијалном развоју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2" name="Content Placeholder 3" descr=""/>
          <p:cNvPicPr/>
          <p:nvPr/>
        </p:nvPicPr>
        <p:blipFill>
          <a:blip r:embed="rId1"/>
          <a:stretch/>
        </p:blipFill>
        <p:spPr>
          <a:xfrm>
            <a:off x="-25560" y="1689120"/>
            <a:ext cx="8902800" cy="16765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79280" y="3429000"/>
            <a:ext cx="172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пасив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сисање, зависно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актив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грижење, агресивност, садиз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гојаз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анор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алкохолиз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депре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179280" y="3068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1. година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  2. година            3-6. година          7-11. година         11-13. го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908000" y="3500280"/>
            <a:ext cx="172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избацивачка фаза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експулзи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задржавајућа фаза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ретенти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опсесивно-компулсивни поремећа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поремећаји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3708360" y="3500280"/>
            <a:ext cx="172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- едипална ситу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примална с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кастрациони ст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фригидност, аноргазмија, импотен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анксиозни поремећа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5364000" y="3500280"/>
            <a:ext cx="17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истополна пријатељ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7164360" y="3500280"/>
            <a:ext cx="172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рана 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средња 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касна 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зависност – незавос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аутор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Објективизација у психијатриј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еусаглашеност психијатара у процесу дијагностиковања су показале значајне разли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окушај да се субјективност психијатара сведе на најмању могућу мер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азрађени су прецизни дијагностички принципи и минимум симптома који треба да се утврде за сваку нозолошку јединиц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Класификација менталних поремећај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413000"/>
            <a:ext cx="8507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атоанатомска класификациј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органски и функционални ментални поремећаји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рема етиологиј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ендогени и егзогени ментални поремећаји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Симптоматски ментални поремећај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сихогени ментални поремећај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Реактивни ментални поремећај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Garamond"/>
              </a:rPr>
              <a:t>Класификација менталних поремећаја на основу клиничке феноменологије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750680"/>
            <a:ext cx="424656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еђународна класификација болести и других стања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10. ревизија (МКБ-10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ветске здравствене организациј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3645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00-F99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5080" y="1750680"/>
            <a:ext cx="42480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Дијагностички и статистички приручник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Diagnostical and Statistical Manual, 5th Revision - DSM 5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Америчке психијатријске организациј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7" name="Content Placeholder 9" descr="index.jpg"/>
          <p:cNvPicPr/>
          <p:nvPr/>
        </p:nvPicPr>
        <p:blipFill>
          <a:blip r:embed="rId1"/>
          <a:stretch/>
        </p:blipFill>
        <p:spPr>
          <a:xfrm>
            <a:off x="5292720" y="4724280"/>
            <a:ext cx="2895480" cy="1581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Image result for mkb 10"/>
          <p:cNvPicPr/>
          <p:nvPr/>
        </p:nvPicPr>
        <p:blipFill>
          <a:blip r:embed="rId2"/>
          <a:stretch/>
        </p:blipFill>
        <p:spPr>
          <a:xfrm>
            <a:off x="1476360" y="42210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Oval 8"/>
          <p:cNvSpPr/>
          <p:nvPr/>
        </p:nvSpPr>
        <p:spPr>
          <a:xfrm>
            <a:off x="357120" y="1197000"/>
            <a:ext cx="3643560" cy="874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36280"/>
            <a:ext cx="8686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Garamond"/>
              </a:rPr>
              <a:t>Ментални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поремећаји и поремећаји понашања</a:t>
            </a:r>
            <a:r>
              <a:rPr b="0" lang="sr-Latn-CS" sz="3000" spc="-1" strike="noStrike">
                <a:solidFill>
                  <a:srgbClr val="000000"/>
                </a:solidFill>
                <a:latin typeface="Garamond"/>
              </a:rPr>
              <a:t> су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резултат комплексних интеракција између</a:t>
            </a:r>
            <a:r>
              <a:rPr b="0" lang="sr-Latn-CS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биолошких, психолошких и социјалних фактора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Garamond"/>
              </a:rPr>
              <a:t>Ментално, телесно и</a:t>
            </a:r>
            <a:r>
              <a:rPr b="0" lang="sr-CS" sz="3000" spc="-1" strike="noStrike">
                <a:solidFill>
                  <a:srgbClr val="000000"/>
                </a:solidFill>
                <a:latin typeface="Garamond"/>
              </a:rPr>
              <a:t> с</a:t>
            </a:r>
            <a:r>
              <a:rPr b="0" lang="sr-Latn-CS" sz="3000" spc="-1" strike="noStrike">
                <a:solidFill>
                  <a:srgbClr val="000000"/>
                </a:solidFill>
                <a:latin typeface="Garamond"/>
              </a:rPr>
              <a:t>оцијално</a:t>
            </a:r>
            <a:r>
              <a:rPr b="0" lang="sr-C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Garamond"/>
              </a:rPr>
              <a:t>здравље су међусобно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Garamond"/>
              </a:rPr>
              <a:t>испреплетани и зависни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1" name="Diagram 3" descr=""/>
          <p:cNvPicPr/>
          <p:nvPr/>
        </p:nvPicPr>
        <p:blipFill>
          <a:blip r:embed="rId1"/>
          <a:stretch/>
        </p:blipFill>
        <p:spPr>
          <a:xfrm>
            <a:off x="4572000" y="2755800"/>
            <a:ext cx="4572000" cy="4140360"/>
          </a:xfrm>
          <a:prstGeom prst="rect">
            <a:avLst/>
          </a:prstGeom>
          <a:ln w="0">
            <a:noFill/>
          </a:ln>
        </p:spPr>
      </p:pic>
      <p:cxnSp>
        <p:nvCxnSpPr>
          <p:cNvPr id="242" name="Straight Arrow Connector 5"/>
          <p:cNvCxnSpPr/>
          <p:nvPr/>
        </p:nvCxnSpPr>
        <p:spPr>
          <a:xfrm>
            <a:off x="1834920" y="2060640"/>
            <a:ext cx="5041080" cy="302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Garamond"/>
              </a:rPr>
              <a:t>Постављање дијагнозе менталних поремећај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Анамнеза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аутоанамнеза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подаци се добијају од самог пацијента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хетероанамнеза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узимање података од друге особе, члана породице или пријатеља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директније и активније вођење интервјуа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дисимулација – агравација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Garamond"/>
              </a:rPr>
              <a:t>Психијатријски интервју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Терапеут је главно оружје интервју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У првом сусрету посебно је значајна </a:t>
            </a:r>
            <a:r>
              <a:rPr b="1" lang="sr-RS" sz="2800" spc="-1" strike="noStrike">
                <a:solidFill>
                  <a:srgbClr val="c00000"/>
                </a:solidFill>
                <a:latin typeface="Garamond"/>
              </a:rPr>
              <a:t>емпатија 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терапеут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Вербална и невербална комуникациј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Трансфер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ontent Placeholder 3" descr=""/>
          <p:cNvPicPr/>
          <p:nvPr/>
        </p:nvPicPr>
        <p:blipFill>
          <a:blip r:embed="rId1"/>
          <a:stretch/>
        </p:blipFill>
        <p:spPr>
          <a:xfrm>
            <a:off x="444600" y="241200"/>
            <a:ext cx="82422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Психијатријска анамнез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Генералиј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Главне тегоб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Анамнеза о садашњој болест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Лична анамне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Породична анамне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Diagram 3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Психички статус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Општи изглед и понашањ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Вербални контакт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Свест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Пажња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Опажањ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Мишљењ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Памћењ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Интелигенциј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Емоциј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Нагони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Воља + </a:t>
            </a:r>
            <a:r>
              <a:rPr b="0" lang="sr-RS" sz="2600" spc="-1" strike="noStrike">
                <a:solidFill>
                  <a:srgbClr val="c00000"/>
                </a:solidFill>
                <a:latin typeface="Garamond"/>
              </a:rPr>
              <a:t>10.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Моралност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Garamond"/>
              </a:rPr>
              <a:t>Допунске методе у испитивању менталних поремећај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aramond"/>
              </a:rPr>
              <a:t>Психолошки тестови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тестови способности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тестови личности (упитници и пројективни тестови)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пецијализовани тестови за испитивање појединих психичких функција и одређених клиничких синдром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aramond"/>
              </a:rPr>
              <a:t>Физичко-биолошке помоћне дијагностичке методе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(биохемијске анализе крви или урина, методе визуализације мозга, неурофизиолошка испитивања, генетички маркери...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Неуропластичност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Garamond"/>
              </a:rPr>
              <a:t>Ранија догма да мозак одраслих не може да производи нове неуроне експериментима је доведена у питањ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Garamond"/>
              </a:rPr>
              <a:t>Код животиња, у регијама задуженим за учење и памћење, могу да се формирају нови неурони у одраслом доб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c00000"/>
                </a:solidFill>
                <a:latin typeface="Garamond"/>
              </a:rPr>
              <a:t>Пластичност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CS" sz="2600" spc="-1" strike="noStrike">
                <a:solidFill>
                  <a:srgbClr val="c00000"/>
                </a:solidFill>
                <a:latin typeface="Garamond"/>
              </a:rPr>
              <a:t>мозг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CS" sz="2600" spc="-1" strike="noStrike">
                <a:solidFill>
                  <a:srgbClr val="c00000"/>
                </a:solidFill>
                <a:latin typeface="Garamond"/>
              </a:rPr>
              <a:t>означав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CS" sz="2600" spc="-1" strike="noStrike">
                <a:solidFill>
                  <a:srgbClr val="c00000"/>
                </a:solidFill>
                <a:latin typeface="Garamond"/>
              </a:rPr>
              <a:t>његову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CS" sz="2600" spc="-1" strike="noStrike">
                <a:solidFill>
                  <a:srgbClr val="c00000"/>
                </a:solidFill>
                <a:latin typeface="Garamond"/>
              </a:rPr>
              <a:t>способност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CS" sz="2600" spc="-1" strike="noStrike">
                <a:solidFill>
                  <a:srgbClr val="c00000"/>
                </a:solidFill>
                <a:latin typeface="Garamond"/>
              </a:rPr>
              <a:t>д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CS" sz="2600" spc="-1" strike="noStrike">
                <a:solidFill>
                  <a:srgbClr val="c00000"/>
                </a:solidFill>
                <a:latin typeface="Garamond"/>
              </a:rPr>
              <a:t>с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CS" sz="2600" spc="-1" strike="noStrike">
                <a:solidFill>
                  <a:srgbClr val="c00000"/>
                </a:solidFill>
                <a:latin typeface="Garamond"/>
              </a:rPr>
              <a:t>мења –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CS" sz="2600" spc="-1" strike="noStrike">
                <a:solidFill>
                  <a:srgbClr val="c00000"/>
                </a:solidFill>
                <a:latin typeface="Garamond"/>
              </a:rPr>
              <a:t>одговор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CS" sz="2600" spc="-1" strike="noStrike">
                <a:solidFill>
                  <a:srgbClr val="c00000"/>
                </a:solidFill>
                <a:latin typeface="Garamond"/>
              </a:rPr>
              <a:t>н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CS" sz="2600" spc="-1" strike="noStrike">
                <a:solidFill>
                  <a:srgbClr val="c00000"/>
                </a:solidFill>
                <a:latin typeface="Garamond"/>
              </a:rPr>
              <a:t>стимулус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Garamond"/>
              </a:rPr>
              <a:t>Манифесту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Garamond"/>
              </a:rPr>
              <a:t>с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Garamond"/>
              </a:rPr>
              <a:t>васкулогенезом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Garamond"/>
              </a:rPr>
              <a:t>синаптогенезом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Garamond"/>
              </a:rPr>
              <a:t>неурогенезом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c00000"/>
                </a:solidFill>
                <a:latin typeface="Garamond"/>
              </a:rPr>
              <a:t>Когнициј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Garamond"/>
              </a:rPr>
              <a:t>Специфичне функције и процеси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опажањ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пажњ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препознавање облик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учењ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памћењ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формирање појмов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језик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Закључна разматрањ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Личност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је јединствена организација особина, формирана деловањем организма и социјалне средине и одређује јединствен начин понашањ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требан је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нтегративан приступ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у сагледавању могућих етиолошких фактора који су условили настанак менталних поремећај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Актуелно је у нашој земљи законски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бавезујућа примена МКБ-10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за дијагностиковање менталних поремећај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“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психијатрија се најбоље учи од интелигентних пацијената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Фројдова теорија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остала је основа читавог терапијског система познатог као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психоанали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азоткрива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несвесни конфлик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Адлерова теорија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а тежња човека је за супериорношћу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(“воља за моћ”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99960" indent="-399960">
              <a:lnSpc>
                <a:spcPct val="90000"/>
              </a:lnSpc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тицај Ничеове филозофиј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99960" indent="-399960">
              <a:lnSpc>
                <a:spcPct val="90000"/>
              </a:lnSpc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стицао је улогу свесног дела личности, као и значај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срединских фактор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99960" indent="-399960">
              <a:lnSpc>
                <a:spcPct val="90000"/>
              </a:lnSpc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 основи воље за моћ није сексуалност, него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агресивнос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Јунгова теорија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оред Ега и индивидуалног несвесног, у склопу личности се налази још и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колективно несвесн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олективно несвесно је збир латентних трагова сећања наслеђених из 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људске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прошлост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труктурне компоненте колективног несвесног чине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архетипови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, универзални облици човекових мисли и идеј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Хорнајева теорија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95640" indent="-3956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“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Базична анксиозност” 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– осећање беспомоћности детет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95640" indent="-3956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Дете је беспомоћно у судару са родитељским ауторитетом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95640" indent="-3956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Формирају се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“неуротичарске потребе”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, као покушај прилагођавања и превазилажења основне тескоб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95640" indent="-3956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Уколико ове потребе загосподаре јединком, онда су патолошк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Фромова теорија лич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95280" indent="-395280"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Личност једне особе је уобличена његовим односима са целим друштвом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95280" indent="-395280"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Важна је улога потребе за удруживањем, за статусом у друштву, за осећањем идентитета, за стваралаштвом…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95280" indent="-395280">
              <a:spcBef>
                <a:spcPts val="4099"/>
              </a:spcBef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95280" indent="-395280"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3100" spc="-1" strike="noStrike" u="sng">
                <a:solidFill>
                  <a:srgbClr val="000000"/>
                </a:solidFill>
                <a:uFillTx/>
                <a:latin typeface="Garamond"/>
              </a:rPr>
              <a:t>“</a:t>
            </a:r>
            <a:r>
              <a:rPr b="0" lang="ru-RU" sz="3100" spc="-1" strike="noStrike" u="sng">
                <a:solidFill>
                  <a:srgbClr val="000000"/>
                </a:solidFill>
                <a:uFillTx/>
                <a:latin typeface="Garamond"/>
              </a:rPr>
              <a:t>осуђен је на слободу”            “умеће љубави”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6" name="Right Arrow 4"/>
          <p:cNvGrpSpPr/>
          <p:nvPr/>
        </p:nvGrpSpPr>
        <p:grpSpPr>
          <a:xfrm>
            <a:off x="4788000" y="5118120"/>
            <a:ext cx="1117440" cy="1003320"/>
            <a:chOff x="4788000" y="5118120"/>
            <a:chExt cx="1117440" cy="1003320"/>
          </a:xfrm>
        </p:grpSpPr>
        <p:pic>
          <p:nvPicPr>
            <p:cNvPr id="147" name="Right Arrow 4" descr=""/>
            <p:cNvPicPr/>
            <p:nvPr/>
          </p:nvPicPr>
          <p:blipFill>
            <a:blip r:embed="rId1"/>
            <a:stretch/>
          </p:blipFill>
          <p:spPr>
            <a:xfrm>
              <a:off x="4788000" y="5118120"/>
              <a:ext cx="111744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859280" y="5376960"/>
              <a:ext cx="7603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9T10:21:24Z</dcterms:created>
  <dc:creator>Milica Borovcanin</dc:creator>
  <dc:description/>
  <dc:language>en-US</dc:language>
  <cp:lastModifiedBy>Milica Borovcanin</cp:lastModifiedBy>
  <dcterms:modified xsi:type="dcterms:W3CDTF">2024-02-13T22:01:42Z</dcterms:modified>
  <cp:revision>64</cp:revision>
  <dc:subject/>
  <dc:title>Slide 1</dc:title>
</cp:coreProperties>
</file>